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7D6-FC53-40D5-8C6B-7B84460F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376-9906-4EF6-B665-51E3F9E8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1DD-1B52-48A6-90CC-B13C96FC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022-6619-4B89-8AA7-BF3DEC1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9D38-C66B-4C69-A6A0-98133FF8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508A-5CA1-48B3-A501-0BF1005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B6DD-6613-4D2B-9D60-7E252C9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39F0-0353-468C-BCDE-7654A07A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BB27-7196-464A-9E09-F52C451A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D655-6B11-4B2F-9D16-241D8F0A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4811-292C-4E76-B8D6-04707B61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3AE-58A5-4E04-A0D2-2B7C8E92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7DA4-04A2-40FC-88D0-365FABC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618-C7B3-4F9C-BD70-EE9E8870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34BA-E4FD-4980-9023-76CE0031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F8E6-1262-42AA-8BA6-2BEB73CD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F4BA-E100-4656-BDE8-F5079C49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1BC-B04B-4A41-8978-19462ACB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DDE-920B-44D4-8718-68FF61C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99F-EB98-4B6B-B390-3A85ABE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07B-6FCC-4311-B76F-A5D6BC1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0E5-D83C-4E0D-8248-CE58558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5C1-9730-493E-BF13-A3EDA46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A95-5325-45A3-96D8-B780FCED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F2E5-1A08-4138-914F-4BB3D4D5D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443-019A-4A31-A863-5103BE60C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USH – UNIT 2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PTERS 6-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el for North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 for American Independ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a New 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eace at Pari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17-223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094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mate for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nch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y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g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rticles of Confederati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17-223 Part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88800"/>
            <a:ext cx="769608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s of Con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omis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weak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Ordinance of 17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west Ordinance of 17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d of the Article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238-245 Part 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for the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ate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bocracy – Shay’s Rebe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titutional Convention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238-245 Part 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igo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s and more plans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, NJ, Great Compromise, &amp; 3/5 Comprom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gu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ederalists vs. Antifederalist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38-245 Part I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federal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i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shington’s Regim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45-25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 of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ase the Antifedera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 of a Cabi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, what, why, h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cal Policy and Assum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on of a National Ba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itutional interpre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irth of Political Partie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50-259 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of the Two-Part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Policy Challe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y’s Trea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ckney’s Trea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ewell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ew Regim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50-259 Part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Adams –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mes a char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F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life for the First Amend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 of null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nch and Indian War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164-17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ndivid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act on the Colon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s and more Acts….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173-18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gar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ce and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ing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mp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s, actions, and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nshend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ston Massac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al Response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181-18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olerable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ce and com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s of correspo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comes and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ntinental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xington and Con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arly Stage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186-194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64920"/>
            <a:ext cx="769608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Continental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s (including Olive Bran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nker H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claration of Independenc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186-194 Part I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3812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f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’s dilem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of the sign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2166840"/>
          <a:ext cx="8229240" cy="3243240"/>
        </p:xfrm>
        <a:graphic>
          <a:graphicData uri="http://schemas.openxmlformats.org/drawingml/2006/table">
            <a:tbl>
              <a:tblPr/>
              <a:tblGrid>
                <a:gridCol w="2939760"/>
                <a:gridCol w="2546280"/>
                <a:gridCol w="2743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rit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6"/>
                          </a:solidFill>
                          <a:latin typeface="Arial"/>
                        </a:rPr>
                        <a:t>Americ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5ffff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?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676520" y="304920"/>
            <a:ext cx="7238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aring the Combatant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01-207 Part 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triots and Loyalist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ges 201-207 Part 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y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?  Why?  Whe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acts on the Patri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rench Aid /Turning Points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ges 207-21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ce / Alli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 im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ing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contrib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1:52:33Z</dcterms:created>
  <dc:creator>School District U46</dc:creator>
  <dc:description/>
  <dc:language>en-US</dc:language>
  <cp:lastModifiedBy>School District U46</cp:lastModifiedBy>
  <dcterms:modified xsi:type="dcterms:W3CDTF">2009-09-17T12:01:39Z</dcterms:modified>
  <cp:revision>1</cp:revision>
  <dc:subject/>
  <dc:title>APUSH – UNIT 2 CHAPTERS 6-8</dc:title>
</cp:coreProperties>
</file>